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N (Nearest Neighbor) @Brown by Manos Renieris + Stephen Reis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T (Cause Transitions) @Saarland by Holger Cleve + Andreas Zell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D (Statistical Debugging) @Berkeley by Ben Liblit (now Wisconsin), Mayur Naik (Stanford), Alice Zheng, Alex Aiken (now Stanford), Michael Jorda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BER @Urbana-Champaign + Purdue by Liu, Yan, Fei, Han, Midkif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4FD01-503E-4B8A-847A-CAF9382B856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8E85B-CD30-49C4-8573-23B45623527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FA09F-98D1-452F-A39C-96321E259AF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473B7-AAA1-4264-A969-E446B61A67F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4ACCA-37F1-411E-8956-C45BDD6146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2CB3B-F3EA-42BF-BAE9-1399BB77419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76345A-6922-4DC8-BCEF-A12A63D6628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EBE1A-1586-47DA-B8E0-EF41CBA0D5D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A8C51-2122-4A57-BE6D-C2F8FE5D124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BBE8-ABAD-49EE-A54A-819A14585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D8541-CDDC-40AE-9F13-44E8EDF845D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72D0-86F6-431B-A9CE-FB7B8A9B03E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5428-998B-469E-982D-79CB1934FAA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8EA77-62A5-447A-B9AC-8D1D54DDE2F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09B82-2A5C-43A3-B490-DBFF0E585D8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62D78-249E-4482-8257-765F9E4C2A0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A9BB-DB1F-4696-BC2D-60413A80435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0655-14BF-4BB1-A94E-E58A846F040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262A7-E7DD-4668-B753-CBA32302341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7B0D-8420-4AA8-9AF8-575235C56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F1793-BC3E-437E-A087-023769C00EC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C1C8A-68D4-4499-872A-01BCBFF1899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2356A-A77A-4FA3-B50C-0572BB88C8C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B9C4E-2F8D-46F5-BC66-362CAB4362C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EF211-3448-4210-BB04-BFFB1CC7811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B7496-29CD-4256-B93F-93576E314CF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DC263C-4FF7-4633-B292-5AFBC85C335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CDC3ED-4470-4975-9EB3-A233CB6184D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D4D55-7DDC-44C5-9C9E-25E799E4F2C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F4E7E-0A20-455A-8704-A732067BE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F12D-844A-4132-A455-E12E417A183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7DF1E-9D8F-4087-85A1-275178EB07D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54E92B-A199-4BFA-BF96-F32AF5BD2B7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E0FAA-CB0E-4467-AAD7-EEE14548A8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4E11-6725-45E6-9EB8-587F0B392E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4E5CA-3390-49ED-82E9-D4836DDC2F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0F5D-4F9E-46E8-BD3E-760CE4E58B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D64B-3BFD-4391-B2CA-F3278E9B07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914E-0B0A-47EF-AC3E-364533F43C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2C32-89C7-4AF8-887E-2F1360FF62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F4FB-B383-49B1-BA0A-D0CA1A6849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BCEA-DD15-4509-AB20-03757A5D64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C49F-31EF-44E0-A0E9-C4B544C116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C498-6084-415E-888C-EB59282796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221E-DDE8-470E-8FA5-9FE416C8E1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C145-EE7A-43DE-B07A-89498673DA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6D12-F6BB-4762-953B-3CA39E10DE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C48B-0DFF-4571-BFF5-0D7929665C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F61C-909F-4EAF-BC04-28EAED806E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E0F3-CE20-4013-BCD1-20DF34860E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B469-9726-475E-928A-44B90D4AB4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7A84-5CCD-4B82-A15F-19B7A62D253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84364-F15D-4E2F-ADFC-2BAD9F2E0F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CB73-9433-4F07-8478-DA04D800E3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A8E5B-7520-4741-8CD1-A7018B5889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87C18-74F8-477B-9AFD-538BF0E5E5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2C06-21C1-4FCD-AB88-A899ABD5A9B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B8A3-23B9-4E47-8A1E-8A175E432FD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03F-0334-49FC-B00B-2B7ABBDD117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01D-C07E-4137-A249-0D4BD9720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473-5647-4312-954C-FC09A06BFD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9655-85F0-4B86-B25A-6AC39C5038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CAD-23CB-4E16-A303-2341278882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D48-1710-43A2-B7B6-B166C07FACB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7E2-21A3-42BF-BB5A-85CC5B577A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BAFC-C0B2-432C-B10E-FEA89213B8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1EB-6CD2-46B9-9DBB-DDB19C1F30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C1F-03B1-405C-BBE8-55175B6B3C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0F4-4B73-435D-83A7-D5613AADEB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A6988-4269-4F6A-832A-6A2DDA10C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92635-CBD5-40A7-9847-06B21F5672A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40BC6-A32A-43A2-8F00-BC97BEEE560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F4BE2-F4A5-464F-A892-E9B8D8E77C4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2E6AE-C5E0-4CD8-A390-2C94CBB53C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6D4FC-FCAC-45DA-9D56-EFF5A369EA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1F2FD-3DB5-4E03-84AD-DE230BF90A4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780E3-01A4-42CC-956D-8B76609040F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9FF12-AFF8-4595-89AC-41C4CA8A3B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E1CF7-BE40-4AFA-850C-9F2F7F3C37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74A5B-9D3F-49B9-9BDD-96EBC198F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ADE93-2E93-4FAF-B2B1-0A487649FBD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7F593-F0B8-4F1B-AACA-FA722572629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E2765-FBCF-4223-8D49-4FB1B313229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A0B78-6EE9-4E54-B723-77ACE7AF937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14A0D-8C9B-4F58-9EA6-BBC5563A2DE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7EB99-F65A-426C-B4AE-16BDCC81523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E4DBF-3DF5-49E3-8A18-1CEF60AECD7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6DCC8-0225-478B-913A-72F75090646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5FCBA-F00C-46EF-9901-969CAEE9911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88A2E-4DB9-40F6-B692-B4F0E49F7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CC1CA-BFE1-40C4-8710-BE1DF0D1E43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4EC4D-4634-45D8-87E8-CC9715E960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F9925-3F45-4677-B4C1-FC925A385E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DE31-D9D3-4E26-8EF4-16ECEA1CAD4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CE87-09E5-4D48-AEDD-8DF1C299E5E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9822-4F15-4D5E-B476-68BA2DA3004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D88A-D316-4F77-B3D8-ABCE09A9F0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1884-3EF4-4EFB-A54C-BE12C4A879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D97A-7562-416C-9EC3-0132223FB1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0A0A-2CC7-4B9E-8815-7B8FFF29B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A694-1C25-46F8-9BA9-30141948A87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84DD-3C4F-4560-AC56-C305F2164E1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A8A7-9C4E-41E6-BC73-2ED09282E3A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2312-ED9E-4C0D-AD56-8BABBF6261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4F01-7F49-4D44-9C40-52D880C0129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8E1D6-DD7C-42F7-A909-F2DEB16942C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DEBDA9-5628-4294-A597-510292278AF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9A208A-5EB4-479E-9B5D-E9D4BB30D7F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DED562-D58D-4C11-922A-986F9BCC380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B22B6A-9423-47DB-B173-D6114575E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ED5D1-2C60-4736-814F-13C9AD2C5A4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8BC59-4D2B-4780-92A2-FE0F9B7C5FC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E4BC13-62F1-4F9E-B71E-52C27EEF132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DD289-D468-4AAB-808B-2CA677012C4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A86A3D-E84C-4376-A54D-153103FEEA1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16DAA9-BF61-4B7C-B29B-0BD4B1A20EF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EAADC0-DC22-48E0-9658-A5A96BCF667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C56A0F-37FA-4E28-B1CE-A38FAC51ED2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D44EC-D330-424B-8B7A-18D6E0AE1F6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27ABF-EE43-41CB-8084-F47DE80794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E067-901A-40FD-B1AC-9DFA2552E4F9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DA57-2F9B-41C7-B7FE-4777DF5FA25C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BE0E-5B26-4ED0-89AF-A658C03F78C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C4B0-17BB-4048-91A5-99B59BB04B93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7F1F-F206-46BB-9102-6C6D0E991164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FDF4-144F-46D4-A6F4-99523A027F1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EAC7-A916-4296-AD03-0B864AC515E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C1A5-EDE8-4487-98D2-15093D7D8F6F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D1D2-B5CC-4D04-9B7A-8350FECBA483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CE0B-985C-4A17-B9AB-F3D8F05DE6DA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45680" y="8496360"/>
            <a:ext cx="10464840" cy="11304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cating Failure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 rot="19800000">
            <a:off x="6543720" y="0"/>
            <a:ext cx="7518240" cy="138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Sane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Infect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ing GCC Stat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098880" y="8077320"/>
            <a:ext cx="6654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x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5130720" y="6426360"/>
            <a:ext cx="2733840" cy="16635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3809880" y="4584600"/>
            <a:ext cx="2291040" cy="206244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870600" y="4521240"/>
            <a:ext cx="2076480" cy="207648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9405720" y="56134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7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 rot="16200000">
            <a:off x="7315920" y="4809240"/>
            <a:ext cx="2167200" cy="194328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054960" y="56260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2781360" y="7289640"/>
            <a:ext cx="10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e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5"/>
          <a:stretch/>
        </p:blipFill>
        <p:spPr>
          <a:xfrm>
            <a:off x="3581280" y="4737240"/>
            <a:ext cx="1959120" cy="21841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8507520" y="7238880"/>
            <a:ext cx="291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Lucida Grande"/>
                <a:ea typeface="Lucida Grande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 rot="1559400">
            <a:off x="7197480" y="7162920"/>
            <a:ext cx="1143000" cy="9856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993920" y="3886200"/>
            <a:ext cx="284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PLUS nod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7759800" y="4229280"/>
            <a:ext cx="1041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860280" y="4216320"/>
            <a:ext cx="1103400" cy="19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F699-190B-41CA-8481-3A2206FDE8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601" name=""/>
          <p:cNvGrpSpPr/>
          <p:nvPr/>
        </p:nvGrpSpPr>
        <p:grpSpPr>
          <a:xfrm>
            <a:off x="3860640" y="3886200"/>
            <a:ext cx="4940280" cy="549000"/>
            <a:chOff x="3860640" y="3886200"/>
            <a:chExt cx="4940280" cy="549000"/>
          </a:xfrm>
        </p:grpSpPr>
        <p:sp>
          <p:nvSpPr>
            <p:cNvPr id="602" name=""/>
            <p:cNvSpPr/>
            <p:nvPr/>
          </p:nvSpPr>
          <p:spPr>
            <a:xfrm>
              <a:off x="4993560" y="388620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86440" y="422604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3860640" y="422928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873600" y="8166240"/>
            <a:ext cx="4965120" cy="0"/>
            <a:chOff x="3873600" y="8166240"/>
            <a:chExt cx="4965120" cy="0"/>
          </a:xfrm>
        </p:grpSpPr>
        <p:sp>
          <p:nvSpPr>
            <p:cNvPr id="606" name=""/>
            <p:cNvSpPr/>
            <p:nvPr/>
          </p:nvSpPr>
          <p:spPr>
            <a:xfrm>
              <a:off x="7810200" y="8166240"/>
              <a:ext cx="1028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873600" y="8166240"/>
              <a:ext cx="1257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873600" y="5842080"/>
            <a:ext cx="4940280" cy="549000"/>
            <a:chOff x="3873600" y="5842080"/>
            <a:chExt cx="4940280" cy="549000"/>
          </a:xfrm>
        </p:grpSpPr>
        <p:sp>
          <p:nvSpPr>
            <p:cNvPr id="609" name=""/>
            <p:cNvSpPr/>
            <p:nvPr/>
          </p:nvSpPr>
          <p:spPr>
            <a:xfrm>
              <a:off x="5006520" y="584208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99400" y="618156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873600" y="618480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42C2-3133-48D8-B318-C87192B95C65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993920" y="3886200"/>
            <a:ext cx="284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PLUS nod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7786800" y="4226040"/>
            <a:ext cx="101448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3860280" y="4229280"/>
            <a:ext cx="111780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7810560" y="8166240"/>
            <a:ext cx="102852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3873600" y="8166240"/>
            <a:ext cx="125712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5006520" y="5842080"/>
            <a:ext cx="284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PLUS nod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799400" y="6181560"/>
            <a:ext cx="101448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873600" y="6184800"/>
            <a:ext cx="111744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12600" y="6896160"/>
            <a:ext cx="1297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link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fld[0].rtx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fld[0].rtx == lin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17DB-D6E3-4748-ADD4-E4FE722CE3EF}" type="slidenum">
              <a:t>12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3860640" y="3886200"/>
            <a:ext cx="4940280" cy="549000"/>
            <a:chOff x="3860640" y="3886200"/>
            <a:chExt cx="4940280" cy="549000"/>
          </a:xfrm>
        </p:grpSpPr>
        <p:sp>
          <p:nvSpPr>
            <p:cNvPr id="647" name=""/>
            <p:cNvSpPr/>
            <p:nvPr/>
          </p:nvSpPr>
          <p:spPr>
            <a:xfrm>
              <a:off x="4993560" y="388620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786440" y="422604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860640" y="422928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5029920" y="7823160"/>
            <a:ext cx="264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Tree cycl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10560" y="8166240"/>
            <a:ext cx="10285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873600" y="8166240"/>
            <a:ext cx="12571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271320" y="6515280"/>
            <a:ext cx="6278040" cy="1333440"/>
            <a:chOff x="3271320" y="6515280"/>
            <a:chExt cx="6278040" cy="1333440"/>
          </a:xfrm>
        </p:grpSpPr>
        <p:sp>
          <p:nvSpPr>
            <p:cNvPr id="654" name=""/>
            <p:cNvSpPr/>
            <p:nvPr/>
          </p:nvSpPr>
          <p:spPr>
            <a:xfrm>
              <a:off x="3271320" y="6909120"/>
              <a:ext cx="6278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ransition from </a:t>
              </a: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PLUS</a:t>
              </a: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 to </a:t>
              </a: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cycle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438960" y="6515280"/>
              <a:ext cx="0" cy="3556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38960" y="7493040"/>
              <a:ext cx="0" cy="3556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873600" y="5842080"/>
            <a:ext cx="4940280" cy="549000"/>
            <a:chOff x="3873600" y="5842080"/>
            <a:chExt cx="4940280" cy="549000"/>
          </a:xfrm>
        </p:grpSpPr>
        <p:sp>
          <p:nvSpPr>
            <p:cNvPr id="658" name=""/>
            <p:cNvSpPr/>
            <p:nvPr/>
          </p:nvSpPr>
          <p:spPr>
            <a:xfrm>
              <a:off x="5006520" y="584208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99400" y="618156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873600" y="618480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D8B2-5EE7-4B40-BD56-E50DA27D3899}" type="slidenum">
              <a:t>13</a:t>
            </a:fld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2057400" y="2400480"/>
            <a:ext cx="8559720" cy="670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ll GCC Transi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2514600" y="2489040"/>
            <a:ext cx="8010360" cy="646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1F5FD-7396-420A-BB1C-74E5050EB65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60240" y="2476440"/>
            <a:ext cx="11658600" cy="61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(GET_CODE (XEXP (x, 0)) == PLUS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x = apply_distributive_la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gen_binary (PLUS, mode,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gen_binary (MULT, mode,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XEXP (XEXP (x, 0), 0),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XEXP (x, 1)),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gen_binary (MULT, mode,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XEXP (XEXP (x, 0), 1),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XEXP (x, 1))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(GET_CODE (x) != MULT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x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bine.c:4279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67" name=""/>
          <p:cNvSpPr/>
          <p:nvPr/>
        </p:nvSpPr>
        <p:spPr>
          <a:xfrm>
            <a:off x="8087760" y="7365960"/>
            <a:ext cx="4498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Gill Sans"/>
                <a:ea typeface="Gill Sans"/>
              </a:rPr>
              <a:t>Should be </a:t>
            </a:r>
            <a:r>
              <a:rPr b="0" lang="en-US" sz="3200" spc="-1" strike="noStrike">
                <a:solidFill>
                  <a:srgbClr val="ff6666"/>
                </a:solidFill>
                <a:latin typeface="Monaco"/>
                <a:ea typeface="Monaco"/>
              </a:rPr>
              <a:t>copy_rtx(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6515280" y="5967360"/>
            <a:ext cx="4679640" cy="1271520"/>
          </a:xfrm>
          <a:prstGeom prst="pie">
            <a:avLst/>
          </a:prstGeom>
          <a:noFill/>
          <a:ln w="6336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DEB0C-BE1F-4726-BDFA-8F0D673FCEF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ow good are we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2895480"/>
            <a:ext cx="10464840" cy="546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285480" indent="0">
              <a:lnSpc>
                <a:spcPct val="100000"/>
              </a:lnSpc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aluation using the 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Siemens Testsuit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7 programs – most text processo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32 variations, each with 1 seeded def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allenge: Using test runs, locate def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proposed defect locators fai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(Comparing coverage, slicing, dynamic invariant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B086-376D-4DFD-A627-7C42FD501C3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841400" y="1892160"/>
            <a:ext cx="9309240" cy="7467840"/>
          </a:xfrm>
          <a:prstGeom prst="pie">
            <a:avLst/>
          </a:prstGeom>
          <a:gradFill rotWithShape="0">
            <a:gsLst>
              <a:gs pos="0">
                <a:srgbClr val="423f52"/>
              </a:gs>
              <a:gs pos="100000">
                <a:srgbClr val="0b0b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184800" y="5308560"/>
            <a:ext cx="635040" cy="635040"/>
            <a:chOff x="6184800" y="5308560"/>
            <a:chExt cx="635040" cy="635040"/>
          </a:xfrm>
        </p:grpSpPr>
        <p:sp>
          <p:nvSpPr>
            <p:cNvPr id="673" name=""/>
            <p:cNvSpPr/>
            <p:nvPr/>
          </p:nvSpPr>
          <p:spPr>
            <a:xfrm>
              <a:off x="6184800" y="5308560"/>
              <a:ext cx="635040" cy="635040"/>
            </a:xfrm>
            <a:prstGeom prst="pie">
              <a:avLst/>
            </a:prstGeom>
            <a:solidFill>
              <a:srgbClr val="ffffff"/>
            </a:solidFill>
            <a:ln w="63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84800" y="5626080"/>
              <a:ext cx="609480" cy="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514920" y="5346720"/>
              <a:ext cx="0" cy="57132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30800" y="4127400"/>
            <a:ext cx="4089240" cy="3213000"/>
            <a:chOff x="4330800" y="4127400"/>
            <a:chExt cx="4089240" cy="3213000"/>
          </a:xfrm>
        </p:grpSpPr>
        <p:sp>
          <p:nvSpPr>
            <p:cNvPr id="677" name=""/>
            <p:cNvSpPr/>
            <p:nvPr/>
          </p:nvSpPr>
          <p:spPr>
            <a:xfrm>
              <a:off x="4572000" y="4140000"/>
              <a:ext cx="3848040" cy="2959200"/>
            </a:xfrm>
            <a:prstGeom prst="pie">
              <a:avLst/>
            </a:prstGeom>
            <a:noFill/>
            <a:ln w="38160">
              <a:solidFill>
                <a:srgbClr val="7e7e7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311880" y="6705360"/>
              <a:ext cx="63504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30800" y="5765760"/>
              <a:ext cx="63504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42160" y="4127400"/>
              <a:ext cx="63468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11320" y="5638680"/>
              <a:ext cx="1623960" cy="4953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64520" y="5765760"/>
              <a:ext cx="90360" cy="129528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5397120" y="4533840"/>
              <a:ext cx="1019160" cy="98424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ose to the Defec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6654960" y="4127400"/>
            <a:ext cx="1358280" cy="1368360"/>
            <a:chOff x="6654960" y="4127400"/>
            <a:chExt cx="1358280" cy="1368360"/>
          </a:xfrm>
        </p:grpSpPr>
        <p:sp>
          <p:nvSpPr>
            <p:cNvPr id="686" name=""/>
            <p:cNvSpPr/>
            <p:nvPr/>
          </p:nvSpPr>
          <p:spPr>
            <a:xfrm>
              <a:off x="7378560" y="4127400"/>
              <a:ext cx="63468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6654960" y="4483080"/>
              <a:ext cx="979200" cy="101268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93840" y="3048120"/>
            <a:ext cx="23857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Predic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lo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>
            <a:off x="2590920" y="3924360"/>
            <a:ext cx="3674880" cy="1636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6540480" y="5689440"/>
            <a:ext cx="2057400" cy="711360"/>
            <a:chOff x="6540480" y="5689440"/>
            <a:chExt cx="2057400" cy="711360"/>
          </a:xfrm>
        </p:grpSpPr>
        <p:sp>
          <p:nvSpPr>
            <p:cNvPr id="691" name=""/>
            <p:cNvSpPr/>
            <p:nvPr/>
          </p:nvSpPr>
          <p:spPr>
            <a:xfrm>
              <a:off x="7962840" y="5765760"/>
              <a:ext cx="63504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6540480" y="5689440"/>
              <a:ext cx="1611360" cy="37152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2793960" y="2425680"/>
            <a:ext cx="7327800" cy="6433920"/>
            <a:chOff x="2793960" y="2425680"/>
            <a:chExt cx="7327800" cy="6433920"/>
          </a:xfrm>
        </p:grpSpPr>
        <p:sp>
          <p:nvSpPr>
            <p:cNvPr id="694" name=""/>
            <p:cNvSpPr/>
            <p:nvPr/>
          </p:nvSpPr>
          <p:spPr>
            <a:xfrm>
              <a:off x="2793960" y="5257800"/>
              <a:ext cx="63504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124080" y="2425680"/>
              <a:ext cx="6997680" cy="6433920"/>
              <a:chOff x="3124080" y="2425680"/>
              <a:chExt cx="6997680" cy="6433920"/>
            </a:xfrm>
          </p:grpSpPr>
          <p:sp>
            <p:nvSpPr>
              <p:cNvPr id="696" name=""/>
              <p:cNvSpPr/>
              <p:nvPr/>
            </p:nvSpPr>
            <p:spPr>
              <a:xfrm>
                <a:off x="6271920" y="8178840"/>
                <a:ext cx="6368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124080" y="2743200"/>
                <a:ext cx="6667560" cy="5727600"/>
              </a:xfrm>
              <a:prstGeom prst="pie">
                <a:avLst/>
              </a:prstGeom>
              <a:noFill/>
              <a:ln w="38160">
                <a:solidFill>
                  <a:srgbClr val="7e7e7e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9067680" y="669276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34240" y="7797960"/>
                <a:ext cx="635040" cy="63468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84600" y="795024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00400" y="681984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441600" y="349236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749840" y="2717640"/>
                <a:ext cx="63468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34240" y="271764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486720" y="513072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71920" y="2425680"/>
                <a:ext cx="6368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4978080" y="3060720"/>
                <a:ext cx="369720" cy="1487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3860280" y="3848040"/>
                <a:ext cx="1544760" cy="71928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 flipV="1">
                <a:off x="6590880" y="2781360"/>
                <a:ext cx="1035000" cy="172224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7632720" y="3149280"/>
                <a:ext cx="309600" cy="1346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 flipV="1">
                <a:off x="3187080" y="5587560"/>
                <a:ext cx="1443240" cy="554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flipV="1">
                <a:off x="6590880" y="7112160"/>
                <a:ext cx="1461960" cy="106200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6514560" y="7098840"/>
                <a:ext cx="127080" cy="1460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>
                <a:off x="8229240" y="6070320"/>
                <a:ext cx="1191960" cy="96516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8039160" y="6146640"/>
                <a:ext cx="180720" cy="2081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 flipV="1">
                <a:off x="4596840" y="6171840"/>
                <a:ext cx="338040" cy="2144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3492360" y="6121440"/>
                <a:ext cx="1101600" cy="99216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7594560" y="4215960"/>
                <a:ext cx="1495440" cy="290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953560" y="3873600"/>
                <a:ext cx="63468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8228880" y="5486040"/>
                <a:ext cx="1438200" cy="6397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6271920" y="8128080"/>
                <a:ext cx="636480" cy="731520"/>
                <a:chOff x="6271920" y="8128080"/>
                <a:chExt cx="636480" cy="7315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271920" y="8178840"/>
                  <a:ext cx="636480" cy="635040"/>
                </a:xfrm>
                <a:prstGeom prst="pie">
                  <a:avLst/>
                </a:prstGeom>
                <a:solidFill>
                  <a:srgbClr val="ffffff"/>
                </a:solidFill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317640" y="8128080"/>
                  <a:ext cx="51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55680"/>
                      <a:tab algn="l" pos="711360"/>
                      <a:tab algn="l" pos="1066680"/>
                      <a:tab algn="l" pos="1422360"/>
                      <a:tab algn="l" pos="1778040"/>
                      <a:tab algn="l" pos="2133720"/>
                      <a:tab algn="l" pos="2489040"/>
                      <a:tab algn="l" pos="2844720"/>
                      <a:tab algn="l" pos="3200400"/>
                      <a:tab algn="l" pos="3556080"/>
                      <a:tab algn="l" pos="3911760"/>
                      <a:tab algn="l" pos="42670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0000"/>
                      </a:solidFill>
                      <a:latin typeface="Zapf Dingbats"/>
                      <a:ea typeface="Zapf Dingbats"/>
                    </a:rPr>
                    <a:t>✘</a:t>
                  </a:r>
                  <a:endParaRPr b="0" lang="en-US" sz="48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6C27D-80CA-4B4F-A7D4-2BED5E7EDCA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495360" y="1987560"/>
            <a:ext cx="12039480" cy="727884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6162840" y="6095880"/>
            <a:ext cx="644400" cy="1270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-6372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cating Defec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7" name=""/>
          <p:cNvSpPr/>
          <p:nvPr/>
        </p:nvSpPr>
        <p:spPr>
          <a:xfrm rot="16200000">
            <a:off x="-113760" y="4610160"/>
            <a:ext cx="2768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% of failing tes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>
            <a:off x="4241880" y="8661240"/>
            <a:ext cx="6985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source code to examin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"/>
          <p:cNvSpPr/>
          <p:nvPr/>
        </p:nvSpPr>
        <p:spPr>
          <a:xfrm rot="16200000">
            <a:off x="8388360" y="4641840"/>
            <a:ext cx="82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826776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Gill Sans"/>
                <a:ea typeface="Gill Sans"/>
              </a:rPr>
              <a:t>Results obtained from Siemens test suite; can not be generaliz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>
            <a:off x="6172200" y="7264440"/>
            <a:ext cx="189216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2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3571560" y="4317840"/>
            <a:ext cx="982440" cy="10828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487680" y="4231800"/>
            <a:ext cx="914400" cy="1930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3505320" y="4232160"/>
            <a:ext cx="676080" cy="3268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0" y="3492360"/>
            <a:ext cx="2527200" cy="83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5,542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4AA66-63B2-4062-AE96-985A3364FAE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pen Iss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ierarchical searc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anking transi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r-side diagnos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bination with statistical causal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C0AB-99C8-49CE-B363-C17A3F5523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0" y="0"/>
            <a:ext cx="13000320" cy="7329240"/>
            <a:chOff x="0" y="0"/>
            <a:chExt cx="13000320" cy="7329240"/>
          </a:xfrm>
        </p:grpSpPr>
        <p:grpSp>
          <p:nvGrpSpPr>
            <p:cNvPr id="435" name=""/>
            <p:cNvGrpSpPr/>
            <p:nvPr/>
          </p:nvGrpSpPr>
          <p:grpSpPr>
            <a:xfrm>
              <a:off x="0" y="0"/>
              <a:ext cx="13000320" cy="7329240"/>
              <a:chOff x="0" y="0"/>
              <a:chExt cx="13000320" cy="7329240"/>
            </a:xfrm>
          </p:grpSpPr>
          <p:pic>
            <p:nvPicPr>
              <p:cNvPr id="4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6502320" cy="39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6501960" y="3378240"/>
                <a:ext cx="6498360" cy="395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6438960" y="2387520"/>
              <a:ext cx="64767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50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52c857"/>
                  </a:solidFill>
                  <a:latin typeface="Gill Sans"/>
                  <a:ea typeface="Gill Sans"/>
                </a:rPr>
                <a:t>Sane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0" y="1003320"/>
            <a:ext cx="6654960" cy="3956040"/>
            <a:chOff x="0" y="1003320"/>
            <a:chExt cx="6654960" cy="3956040"/>
          </a:xfrm>
        </p:grpSpPr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152280" y="1003320"/>
              <a:ext cx="650268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0" y="2400480"/>
              <a:ext cx="6654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680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Infected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nding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0"/>
            <a:ext cx="12877920" cy="8906760"/>
            <a:chOff x="0" y="0"/>
            <a:chExt cx="12877920" cy="8906760"/>
          </a:xfrm>
        </p:grpSpPr>
        <p:pic>
          <p:nvPicPr>
            <p:cNvPr id="446" name="" descr=""/>
            <p:cNvPicPr/>
            <p:nvPr/>
          </p:nvPicPr>
          <p:blipFill>
            <a:blip r:embed="rId3"/>
            <a:stretch/>
          </p:blipFill>
          <p:spPr>
            <a:xfrm rot="2639400">
              <a:off x="1219320" y="306360"/>
              <a:ext cx="2430360" cy="449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7" name=""/>
            <p:cNvGrpSpPr/>
            <p:nvPr/>
          </p:nvGrpSpPr>
          <p:grpSpPr>
            <a:xfrm>
              <a:off x="3479760" y="6197400"/>
              <a:ext cx="7976520" cy="2709360"/>
              <a:chOff x="3479760" y="6197400"/>
              <a:chExt cx="7976520" cy="2709360"/>
            </a:xfrm>
          </p:grpSpPr>
          <p:sp>
            <p:nvSpPr>
              <p:cNvPr id="448" name=""/>
              <p:cNvSpPr/>
              <p:nvPr/>
            </p:nvSpPr>
            <p:spPr>
              <a:xfrm>
                <a:off x="3479760" y="6283800"/>
                <a:ext cx="3191400" cy="1405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442040" y="7626240"/>
                <a:ext cx="440208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The difference</a:t>
                </a:r>
                <a:endParaRPr b="0" lang="en-US" sz="42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causes the failure</a:t>
                </a:r>
                <a:endParaRPr b="0" lang="en-US" sz="4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980760" y="6197400"/>
                <a:ext cx="4475520" cy="1453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 rot="19800000">
              <a:off x="9486720" y="306360"/>
              <a:ext cx="2430360" cy="449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B3C6-9A92-4B00-A386-4B958E684F1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use transitions pinpoin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ure causes in the program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ailure-causing statements ar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otentia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ix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(and frequently defects, too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en more demanding, yet effective techniqu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DF35-9C2D-4921-A1E4-6483E688F0B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BAF3-DA10-42B0-897F-89E19A43CB42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Sane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Infect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Spa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1320840" y="1905120"/>
            <a:ext cx="8432640" cy="6896160"/>
            <a:chOff x="1320840" y="1905120"/>
            <a:chExt cx="8432640" cy="6896160"/>
          </a:xfrm>
        </p:grpSpPr>
        <p:sp>
          <p:nvSpPr>
            <p:cNvPr id="459" name=""/>
            <p:cNvSpPr/>
            <p:nvPr/>
          </p:nvSpPr>
          <p:spPr>
            <a:xfrm>
              <a:off x="3098880" y="8077320"/>
              <a:ext cx="6654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680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Mixed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320840" y="1905120"/>
              <a:ext cx="7624800" cy="6183000"/>
              <a:chOff x="1320840" y="1905120"/>
              <a:chExt cx="7624800" cy="6183000"/>
            </a:xfrm>
          </p:grpSpPr>
          <p:pic>
            <p:nvPicPr>
              <p:cNvPr id="4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0840" y="1905120"/>
                <a:ext cx="2733480" cy="16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3809880" y="4627440"/>
                <a:ext cx="2290320" cy="3460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869520" y="4521240"/>
                <a:ext cx="2076120" cy="3484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0" y="-360"/>
            <a:ext cx="9917280" cy="6345360"/>
            <a:chOff x="0" y="-360"/>
            <a:chExt cx="9917280" cy="6345360"/>
          </a:xfrm>
        </p:grpSpPr>
        <p:sp>
          <p:nvSpPr>
            <p:cNvPr id="465" name=""/>
            <p:cNvSpPr/>
            <p:nvPr/>
          </p:nvSpPr>
          <p:spPr>
            <a:xfrm>
              <a:off x="9406080" y="561348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2c857"/>
                  </a:solidFill>
                  <a:latin typeface="Zapf Dingbats"/>
                  <a:ea typeface="Zapf Dingbats"/>
                </a:rPr>
                <a:t>✔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-110880" y="110520"/>
              <a:ext cx="216540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800280" y="0"/>
            <a:ext cx="3047760" cy="8013240"/>
            <a:chOff x="800280" y="0"/>
            <a:chExt cx="3047760" cy="8013240"/>
          </a:xfrm>
        </p:grpSpPr>
        <p:sp>
          <p:nvSpPr>
            <p:cNvPr id="468" name=""/>
            <p:cNvSpPr/>
            <p:nvPr/>
          </p:nvSpPr>
          <p:spPr>
            <a:xfrm>
              <a:off x="3054960" y="562572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81360" y="7289640"/>
              <a:ext cx="1066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es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70" name="" descr=""/>
            <p:cNvPicPr/>
            <p:nvPr/>
          </p:nvPicPr>
          <p:blipFill>
            <a:blip r:embed="rId5"/>
            <a:stretch/>
          </p:blipFill>
          <p:spPr>
            <a:xfrm>
              <a:off x="800280" y="0"/>
              <a:ext cx="1958760" cy="218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"/>
          <p:cNvGrpSpPr/>
          <p:nvPr/>
        </p:nvGrpSpPr>
        <p:grpSpPr>
          <a:xfrm>
            <a:off x="-720" y="-720"/>
            <a:ext cx="8779320" cy="7799760"/>
            <a:chOff x="-720" y="-720"/>
            <a:chExt cx="8779320" cy="7799760"/>
          </a:xfrm>
        </p:grpSpPr>
        <p:sp>
          <p:nvSpPr>
            <p:cNvPr id="472" name=""/>
            <p:cNvSpPr/>
            <p:nvPr/>
          </p:nvSpPr>
          <p:spPr>
            <a:xfrm>
              <a:off x="8486640" y="7067520"/>
              <a:ext cx="291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8000"/>
                  </a:solidFill>
                  <a:latin typeface="Lucida Grande"/>
                  <a:ea typeface="Lucida Grande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 rot="1560000">
              <a:off x="157320" y="200160"/>
              <a:ext cx="1144440" cy="9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2095560" y="3911760"/>
            <a:ext cx="8712000" cy="4863600"/>
            <a:chOff x="2095560" y="3911760"/>
            <a:chExt cx="8712000" cy="4863600"/>
          </a:xfrm>
        </p:grpSpPr>
        <p:grpSp>
          <p:nvGrpSpPr>
            <p:cNvPr id="475" name=""/>
            <p:cNvGrpSpPr/>
            <p:nvPr/>
          </p:nvGrpSpPr>
          <p:grpSpPr>
            <a:xfrm>
              <a:off x="2095560" y="3911760"/>
              <a:ext cx="8712000" cy="4863600"/>
              <a:chOff x="2095560" y="3911760"/>
              <a:chExt cx="8712000" cy="48636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3860280" y="3911760"/>
                <a:ext cx="4939920" cy="549000"/>
                <a:chOff x="3860280" y="3911760"/>
                <a:chExt cx="4939920" cy="5490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5652000" y="3911760"/>
                  <a:ext cx="17092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066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00"/>
                      </a:solidFill>
                      <a:latin typeface="Gill Sans"/>
                      <a:ea typeface="Gill Sans"/>
                    </a:rPr>
                    <a:t>argc = 3</a:t>
                  </a:r>
                  <a:endParaRPr b="0" lang="en-US" sz="36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79720" y="4229280"/>
                  <a:ext cx="13204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3860280" y="4229280"/>
                  <a:ext cx="1574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095560" y="4483440"/>
                <a:ext cx="8712000" cy="4291920"/>
                <a:chOff x="2095560" y="4483440"/>
                <a:chExt cx="8712000" cy="42919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095560" y="5143320"/>
                  <a:ext cx="8712000" cy="3632040"/>
                </a:xfrm>
                <a:prstGeom prst="rect">
                  <a:avLst/>
                </a:prstGeom>
                <a:solidFill>
                  <a:srgbClr val="0000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22480" y="4597560"/>
                  <a:ext cx="599760" cy="540720"/>
                </a:xfrm>
                <a:prstGeom prst="line">
                  <a:avLst/>
                </a:prstGeom>
                <a:ln w="25560">
                  <a:solidFill>
                    <a:srgbClr val="00000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8330400" y="4483440"/>
                  <a:ext cx="664920" cy="641160"/>
                </a:xfrm>
                <a:prstGeom prst="line">
                  <a:avLst/>
                </a:prstGeom>
                <a:ln w="25560">
                  <a:solidFill>
                    <a:srgbClr val="00000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</p:grpSp>
        </p:grpSp>
        <p:sp>
          <p:nvSpPr>
            <p:cNvPr id="484" name=""/>
            <p:cNvSpPr/>
            <p:nvPr/>
          </p:nvSpPr>
          <p:spPr>
            <a:xfrm>
              <a:off x="3517560" y="4876920"/>
              <a:ext cx="151920" cy="3049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245160" y="4876920"/>
              <a:ext cx="152280" cy="3049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F7E8-36CA-4ABB-BDDC-22F14A02C5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499" name=""/>
          <p:cNvGrpSpPr/>
          <p:nvPr/>
        </p:nvGrpSpPr>
        <p:grpSpPr>
          <a:xfrm>
            <a:off x="3860640" y="3911760"/>
            <a:ext cx="4940280" cy="549000"/>
            <a:chOff x="3860640" y="3911760"/>
            <a:chExt cx="4940280" cy="549000"/>
          </a:xfrm>
        </p:grpSpPr>
        <p:sp>
          <p:nvSpPr>
            <p:cNvPr id="500" name=""/>
            <p:cNvSpPr/>
            <p:nvPr/>
          </p:nvSpPr>
          <p:spPr>
            <a:xfrm>
              <a:off x="5652360" y="3911760"/>
              <a:ext cx="170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rgc = 3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80080" y="422892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860640" y="4228920"/>
              <a:ext cx="1574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860640" y="5842080"/>
            <a:ext cx="4927680" cy="549000"/>
            <a:chOff x="3860640" y="5842080"/>
            <a:chExt cx="4927680" cy="549000"/>
          </a:xfrm>
        </p:grpSpPr>
        <p:sp>
          <p:nvSpPr>
            <p:cNvPr id="504" name=""/>
            <p:cNvSpPr/>
            <p:nvPr/>
          </p:nvSpPr>
          <p:spPr>
            <a:xfrm>
              <a:off x="5639760" y="5842080"/>
              <a:ext cx="170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rgc = 3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67480" y="618480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860640" y="6184800"/>
              <a:ext cx="1574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860640" y="7810560"/>
            <a:ext cx="4927680" cy="549000"/>
            <a:chOff x="3860640" y="7810560"/>
            <a:chExt cx="4927680" cy="549000"/>
          </a:xfrm>
        </p:grpSpPr>
        <p:sp>
          <p:nvSpPr>
            <p:cNvPr id="508" name=""/>
            <p:cNvSpPr/>
            <p:nvPr/>
          </p:nvSpPr>
          <p:spPr>
            <a:xfrm>
              <a:off x="5693400" y="7810560"/>
              <a:ext cx="1582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[2] = 0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67480" y="815328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860640" y="8153280"/>
              <a:ext cx="1574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537000" y="6515280"/>
            <a:ext cx="5895720" cy="1333440"/>
            <a:chOff x="3537000" y="6515280"/>
            <a:chExt cx="5895720" cy="1333440"/>
          </a:xfrm>
        </p:grpSpPr>
        <p:sp>
          <p:nvSpPr>
            <p:cNvPr id="512" name=""/>
            <p:cNvSpPr/>
            <p:nvPr/>
          </p:nvSpPr>
          <p:spPr>
            <a:xfrm>
              <a:off x="3537000" y="6845400"/>
              <a:ext cx="5895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ransition from </a:t>
              </a: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rgc</a:t>
              </a: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 to </a:t>
              </a: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[2]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38600" y="6515280"/>
              <a:ext cx="0" cy="3556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38600" y="7493040"/>
              <a:ext cx="0" cy="3556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9B8F-B914-48A0-AA4F-5D7B6AD5744A}" type="slidenum">
              <a:t>4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nsi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ause transi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ccurs when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new variabl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begins to be a failure caus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00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argc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 longer causes the failure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ut 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a[2]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doe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n be narrowed down by binary search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4FF3-6495-47AE-A8E8-790B6D7D02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47640" y="533520"/>
            <a:ext cx="11684160" cy="90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rgc, char *argv[]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*a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Inpu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 = (int *)malloc((argc - 1) * sizeof(int)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i] = atoi(argv[i + 1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Sor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hell_sort(a, argc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Outpu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Output: 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%d ", a[i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\n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ree(a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6300000" y="4330800"/>
            <a:ext cx="4060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Gill Sans"/>
                <a:ea typeface="Gill Sans"/>
              </a:rPr>
              <a:t>Should be </a:t>
            </a:r>
            <a:r>
              <a:rPr b="0" lang="en-US" sz="3200" spc="-1" strike="noStrike">
                <a:solidFill>
                  <a:srgbClr val="ff6666"/>
                </a:solidFill>
                <a:latin typeface="Monaco"/>
                <a:ea typeface="Monaco"/>
              </a:rPr>
              <a:t>argc - 1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888840" y="4076640"/>
            <a:ext cx="4680000" cy="1270080"/>
          </a:xfrm>
          <a:prstGeom prst="pie">
            <a:avLst/>
          </a:prstGeom>
          <a:noFill/>
          <a:ln w="6336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DBD2-ADFD-469B-9D0A-2E4DED92372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y Transitions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ch failure cause in the program state is caused by some state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se statements are execu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t 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cause transition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use transitions thus are 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statements that cause the failur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3813-3C78-4720-B501-AE2919FCCD1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otential Fix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ch cause transition implie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ix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make the failure no longer occur – just prohibit the transi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cause transition is more than a potential fix – it may be “the” defect itself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2DB2-CE7A-4921-A7DE-02C0359DB8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9372600" y="3505320"/>
            <a:ext cx="0" cy="4214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8877240" y="5384880"/>
            <a:ext cx="965160" cy="474480"/>
          </a:xfrm>
          <a:prstGeom prst="rect">
            <a:avLst/>
          </a:prstGeom>
          <a:ln w="0">
            <a:noFill/>
          </a:ln>
        </p:spPr>
      </p:pic>
      <p:grpSp>
        <p:nvGrpSpPr>
          <p:cNvPr id="526" name=""/>
          <p:cNvGrpSpPr/>
          <p:nvPr/>
        </p:nvGrpSpPr>
        <p:grpSpPr>
          <a:xfrm>
            <a:off x="0" y="0"/>
            <a:ext cx="9762120" cy="4227120"/>
            <a:chOff x="0" y="0"/>
            <a:chExt cx="9762120" cy="4227120"/>
          </a:xfrm>
        </p:grpSpPr>
        <p:pic>
          <p:nvPicPr>
            <p:cNvPr id="52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9505440" y="3861000"/>
              <a:ext cx="25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8902800" y="7035840"/>
            <a:ext cx="938160" cy="4636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269720" y="2641680"/>
            <a:ext cx="539748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20720" indent="-4316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lang="en-US" sz="3200" spc="-1" strike="noStrike">
                <a:solidFill>
                  <a:srgbClr val="ffff00"/>
                </a:solidFill>
                <a:latin typeface="Gill Sans"/>
              </a:rPr>
              <a:t>caus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need not be an </a:t>
            </a: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20720" indent="-43164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refore, a transition need not be a defec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20720" indent="-43164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stead, a cause may simply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enabl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the infection to become a failur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20720" indent="-43164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ence, every cause-effect chain must eventually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join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th the infection chain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09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uses and Infe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594560" y="29844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7594560" y="462276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7594560" y="61722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7581960" y="7683480"/>
          <a:ext cx="2146320" cy="49536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3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10439280" y="7099200"/>
            <a:ext cx="7495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469800" y="0"/>
            <a:ext cx="10045800" cy="7821720"/>
            <a:chOff x="469800" y="0"/>
            <a:chExt cx="10045800" cy="7821720"/>
          </a:xfrm>
        </p:grpSpPr>
        <p:grpSp>
          <p:nvGrpSpPr>
            <p:cNvPr id="538" name=""/>
            <p:cNvGrpSpPr/>
            <p:nvPr/>
          </p:nvGrpSpPr>
          <p:grpSpPr>
            <a:xfrm>
              <a:off x="469800" y="0"/>
              <a:ext cx="8857800" cy="7584840"/>
              <a:chOff x="469800" y="0"/>
              <a:chExt cx="8857800" cy="7584840"/>
            </a:xfrm>
          </p:grpSpPr>
          <p:pic>
            <p:nvPicPr>
              <p:cNvPr id="53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980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8944200" y="70358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 flipH="1" flipV="1">
              <a:off x="10324440" y="7226280"/>
              <a:ext cx="163800" cy="11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10274040" y="751824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0299600" y="7658280"/>
              <a:ext cx="21600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0" y="0"/>
            <a:ext cx="10270440" cy="5133600"/>
            <a:chOff x="0" y="0"/>
            <a:chExt cx="10270440" cy="5133600"/>
          </a:xfrm>
        </p:grpSpPr>
        <p:grpSp>
          <p:nvGrpSpPr>
            <p:cNvPr id="545" name=""/>
            <p:cNvGrpSpPr/>
            <p:nvPr/>
          </p:nvGrpSpPr>
          <p:grpSpPr>
            <a:xfrm>
              <a:off x="0" y="0"/>
              <a:ext cx="9486720" cy="4201560"/>
              <a:chOff x="0" y="0"/>
              <a:chExt cx="9486720" cy="4201560"/>
            </a:xfrm>
          </p:grpSpPr>
          <p:pic>
            <p:nvPicPr>
              <p:cNvPr id="5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>
                <a:off x="9230040" y="3835440"/>
                <a:ext cx="256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9887040" y="4584600"/>
              <a:ext cx="38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69800" y="0"/>
            <a:ext cx="9813600" cy="6683040"/>
            <a:chOff x="469800" y="0"/>
            <a:chExt cx="9813600" cy="6683040"/>
          </a:xfrm>
        </p:grpSpPr>
        <p:pic>
          <p:nvPicPr>
            <p:cNvPr id="550" name="" descr=""/>
            <p:cNvPicPr/>
            <p:nvPr/>
          </p:nvPicPr>
          <p:blipFill>
            <a:blip r:embed="rId8"/>
            <a:stretch/>
          </p:blipFill>
          <p:spPr>
            <a:xfrm>
              <a:off x="46980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1" name=""/>
            <p:cNvGrpSpPr/>
            <p:nvPr/>
          </p:nvGrpSpPr>
          <p:grpSpPr>
            <a:xfrm>
              <a:off x="8439480" y="6134040"/>
              <a:ext cx="1843920" cy="549000"/>
              <a:chOff x="8439480" y="6134040"/>
              <a:chExt cx="1843920" cy="549000"/>
            </a:xfrm>
          </p:grpSpPr>
          <p:sp>
            <p:nvSpPr>
              <p:cNvPr id="552" name=""/>
              <p:cNvSpPr/>
              <p:nvPr/>
            </p:nvSpPr>
            <p:spPr>
              <a:xfrm>
                <a:off x="843948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90000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9952200" y="3416400"/>
            <a:ext cx="13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8635320" y="4127040"/>
            <a:ext cx="1422720" cy="3804120"/>
            <a:chOff x="8635320" y="4127040"/>
            <a:chExt cx="1422720" cy="3804120"/>
          </a:xfrm>
        </p:grpSpPr>
        <p:sp>
          <p:nvSpPr>
            <p:cNvPr id="556" name=""/>
            <p:cNvSpPr/>
            <p:nvPr/>
          </p:nvSpPr>
          <p:spPr>
            <a:xfrm flipV="1">
              <a:off x="8635320" y="6413400"/>
              <a:ext cx="1414440" cy="15177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10045800" y="4838400"/>
              <a:ext cx="0" cy="156204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9613440" y="4127040"/>
              <a:ext cx="444600" cy="6843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841120" y="2946240"/>
            <a:ext cx="0" cy="5334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11971800" y="764532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8305920" y="2984400"/>
            <a:ext cx="2133000" cy="5207040"/>
            <a:chOff x="8305920" y="2984400"/>
            <a:chExt cx="2133000" cy="5207040"/>
          </a:xfrm>
        </p:grpSpPr>
        <p:sp>
          <p:nvSpPr>
            <p:cNvPr id="562" name=""/>
            <p:cNvSpPr/>
            <p:nvPr/>
          </p:nvSpPr>
          <p:spPr>
            <a:xfrm>
              <a:off x="9740520" y="6184800"/>
              <a:ext cx="698400" cy="50796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31120" y="4622760"/>
              <a:ext cx="698040" cy="50796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305920" y="7683480"/>
              <a:ext cx="698040" cy="50796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31120" y="2984400"/>
              <a:ext cx="698040" cy="50796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8749800" y="4863600"/>
              <a:ext cx="1364760" cy="15159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8737200" y="3162240"/>
              <a:ext cx="0" cy="17193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2A1-ACD0-4690-93F3-603CF9973C5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