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CFG is best developed incrementally on an extra board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this is best developed interactively on the board (possibly by having the students call further dependences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83BDA-3CBE-4F92-B203-CA343FD504B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1A5C7-BBEF-48F5-9B93-83FCD16A70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B27B9-9E52-4375-8C19-D3D6D8899D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B5684-CB22-46DD-8DCF-76DA0053B5A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CD756-78B6-40D2-914E-3E85613ACE0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9F717-E2B6-4F00-BF93-EFA53F4AEC6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A5A7F-098B-47B9-ADFC-970F7A3C958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F688F-01E0-4351-B684-15BC854569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05F98-CBC0-4BC0-A88C-FCEA332E700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D380F-C511-4848-B9DC-E4B4158F3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1523-E976-4074-A5FF-3C6DBABFB3B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05C2-C2CD-445E-920B-D2645F057C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831A-AAEC-4DB8-A14A-34F24BA4DFE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1ED3B-045B-4CBD-BAE7-568C9CE09D1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4C63-6B78-4012-9B54-1C26F9A034E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D9BC-8C22-46BC-B76C-7DD038D822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86744-D380-43D2-A066-39982D4345E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F8F2-0D9F-4BC4-8BFE-3EC62C61335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E52D-85D3-4649-B9CD-650A75B8473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F3BE-5412-49E9-B230-B023CA990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AA0D-22E8-4A33-B4D8-B245BCD6E6E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3BA1A-FF09-4026-BFD6-09C72E1AF39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69B81-3CCC-405E-ACB1-90486ECD85B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FF3DC-2F04-4AD6-8D28-56015E482BB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D84F8-3029-4460-B487-7AE89871491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8237F-C970-4E24-A068-A91D81AC93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B3BC1-0E7F-4F28-9F68-31A064DB1E9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62685-0C6A-44C9-9097-44D72D60507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374165-CFDE-427F-881B-96B5218F20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7B61F7-41A4-4986-9B72-5F1E79005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1319-C96F-4918-85F8-CD6536F2367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A6378-53DA-4F2D-913B-F6487A86919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40A47-7E3A-43B1-B6FF-A3965A76C88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A5B86-AD37-4C7D-AAF7-7AB43D9991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3374-8456-415E-A43B-AD3AB6080D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0CF2-5ABD-4E26-B3A4-F3C1ACCEB3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61B7-420C-42C6-9D22-8BBFB975B6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EE66-9FEB-4D32-BF0B-B818BB3485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8831-F0AC-496E-A100-76D7C07458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DCA1-E012-4521-AB3A-D92AA84F07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12B7-BDE7-4FC6-AEDD-E187FF9E45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DB30-8013-444F-BE9D-41FB606C2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42FD-3675-4AF5-8CCA-4D17F9D4CD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3D1F-135A-4B2A-A7A0-0D348AC79F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AC85-83B7-41C9-AC9B-DAE6769CAB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2D81-C64A-4AE2-8A73-77F9875AC6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BF35-BDC8-46AC-AB66-9CB7ACF44A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EEEC-92A9-4EFD-B1B6-7EDF787CEF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B990-F108-44E0-942E-47909A1174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1B16-E429-4F50-A3ED-4D96B0F588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B1CA-C180-48A1-AA3D-D0DA5B5750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1584-0F10-476D-B70A-C868E3B895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7ED5-6FE0-4E4F-BF49-1B11604D2C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300D-76AF-402C-9694-1B27307979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55B7-8056-4B93-8BCA-B54BCFFC4C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E466-F912-4FDF-8A1C-C7B1887E66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DD84-CE5B-4A28-ABB9-76F3DDB53D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35D-0FFC-4CBD-8DF6-282269ACDA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B09-1727-4878-A39E-C26653402B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207-C4A5-402D-9E67-71EFCA317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BC5-4102-423D-88E3-8997D68372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06A-A1FA-453E-8B87-7586B3B4D7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4BD-0835-4C5E-8518-9CD1463B04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C7D-D9E7-4D96-9D54-E1E1E04073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567-2BEC-4060-A8AE-B76069B115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514-FDE1-4EFA-9434-CEA132D44E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30A-EBA5-4A00-912F-2359CA7121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D35-BE63-4F85-82F0-546D4F7573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BCB-99E2-42C0-B861-64DC15FDE0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78872-051F-49AD-A2AA-E9669E4C5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A9C62-A79A-44A1-A74C-8C7D10EA15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52B96-55BB-42CF-9F22-F2C6530191C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572A3-7D4A-478A-ACB8-7BDBA39828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3A0BB-8E1A-48C8-8B4E-180B5D82FD2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B74F2-D421-45B6-B3D1-6107EAA4AF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B5257-E57D-40F4-BE7F-8C2A7E9E5F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4ADDE-6335-4FA0-8D82-0EF88A7486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E1349-040B-4028-8D42-02659AFA0B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3E626-07D7-4A68-ACAD-AB1F9FA4A2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9A4E9-82C7-4C2D-8E1B-134B12E6B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C9BB7-34F9-4ED1-9E6D-1051035482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7BCD6-2AD1-4E10-A842-DFC31A4486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07F3E-D5CE-4ADC-BD91-8CB2388910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9A39A-A5AA-4A00-9817-C15039C29C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3E6B4-7FD7-472E-ACDF-0D20D5340A2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25519-34C2-4BFB-A4E6-6BE9DBB7309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31CBC-C06E-4E9B-B23E-3ED36F15FF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C2068-2766-4C6A-B87E-F89C3A8EC19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4DFEE-C4E0-462A-992A-C08205E5F8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072CC-1FBC-4AF4-AFAD-A7F341E3F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9D4AD-2C9E-4006-B390-BBA5D91B9D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1AE72-D221-490B-A041-3E7BD762D6F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BEDA6-AAB1-465A-848F-31EFA84C740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5857-C4CA-4D63-A407-635668FFB9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FFC5-0A42-4554-A101-8B4A2B7409B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D3B9-D99B-4115-9998-1EAEAF62AC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76BE-2B9C-499D-9F9D-36D07463A0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DE80-15C0-4F0B-86C4-E86E7992A9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E4AE-59B5-4EB5-9A6B-75197185CE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3175-FE9E-4493-AE5F-C9ECFEFE2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4D79-28EC-4FD2-BA9F-89320DADBB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7025-DE70-4901-AB9F-ECE562E917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D68F-2348-4CAF-9BB7-95F7C33107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0D5E-52DF-4059-A19C-88EC4047CD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F697-8B08-4A04-8F81-898EAAF4B0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CC092-77FA-4F06-90CE-A96F09B67E0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102D6-1BD8-4C7C-BDFF-C71D021F1DA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1CD3D-34D3-49E0-B691-0692E58998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367DB-9639-4C75-9518-0A3B802748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26763A-EE71-4CBA-87A6-D288EBA6D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07405-DCB1-4407-9754-8701A02C7AD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18093-71A9-4C62-B6D6-9E84612901E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EC5D1-9ECF-41CD-A880-F5FFBB3243E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49C0F8-D7CF-4EFB-90F9-EBDFBAA19CF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EB3CB-14A2-4208-99B9-F3D265C43F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C63DA-F0D8-477E-AFBF-9843A72A1A8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6950D-693C-41F2-95CA-0F3922A634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64302-0B62-46D7-8209-F6524F368F8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6E66F-F7B4-4739-9F37-A714EB181B1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90746-6B4F-42E2-87B1-0F78F24AE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0E9-9B18-47E6-8AA8-2CD58D46BA8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2831-6783-4DFF-A35F-E27FDC013ED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A54D-56D5-4AB3-9CDA-6F0620764D79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2EA5-9997-4E95-9DA9-B2CE673FD3C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241C-2471-4712-ADBF-8CE2D9B624B2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18F1-290F-4690-A66D-6D880368D00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6176-9065-4DF4-8E3D-4BA8E0BA33A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093F-B22D-410D-831A-45A7503CC27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E7F8-B5F9-40C5-B65E-0AD036306D4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C672-60FB-4B38-B499-7E31A94D6A2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5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ducing Erro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-990720" y="4737240"/>
            <a:ext cx="5540400" cy="55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ffected Stateme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Read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 statement can read the program state (i.e. from a variabl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Execution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have any effect, a statement must be execut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7EF-4632-43D5-BCE6-3FB84027D2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ffects in fibo.c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282680" y="2705040"/>
          <a:ext cx="10439280" cy="6248160"/>
        </p:xfrm>
        <a:graphic>
          <a:graphicData uri="http://schemas.openxmlformats.org/drawingml/2006/table">
            <a:tbl>
              <a:tblPr/>
              <a:tblGrid>
                <a:gridCol w="863640"/>
                <a:gridCol w="3543120"/>
                <a:gridCol w="1866960"/>
                <a:gridCol w="2082960"/>
                <a:gridCol w="2082600"/>
              </a:tblGrid>
              <a:tr h="6253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tateme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ea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Writ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ontro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ib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-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int 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 =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 =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while (n &gt; 1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-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 = n -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 = f0 + 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, 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 = 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 = 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return 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66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082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Monaco"/>
                          <a:ea typeface="Monaco"/>
                        </a:rPr>
                        <a:t>&lt;ret&gt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F768-78F1-4448-B037-47C7758F0BB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63640" y="253800"/>
            <a:ext cx="6540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trol Flow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6" name=""/>
          <p:cNvSpPr/>
          <p:nvPr/>
        </p:nvSpPr>
        <p:spPr>
          <a:xfrm>
            <a:off x="1219320" y="2895480"/>
            <a:ext cx="491472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66"/>
                </a:solidFill>
                <a:latin typeface="Monaco"/>
                <a:ea typeface="Monaco"/>
              </a:rPr>
              <a:t>fib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f, f0 = 1, f1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hile (n &gt; 1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 = n - 1;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 = f0 + f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0 = f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1 = f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f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5802480" y="254160"/>
            <a:ext cx="6727680" cy="906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914E-2C06-420D-8F8C-7B45F86212E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80800" y="253800"/>
            <a:ext cx="10629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trol Flow Patter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546120" y="2451240"/>
            <a:ext cx="11555280" cy="70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279A-9E2F-4B9C-A0BE-01017BBB04C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-5524560" y="-5727600"/>
            <a:ext cx="10159920" cy="117331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5"/>
          <a:stretch/>
        </p:blipFill>
        <p:spPr>
          <a:xfrm>
            <a:off x="965160" y="-3416400"/>
            <a:ext cx="10198080" cy="117777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672840"/>
            <a:ext cx="69087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pend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32B1-9666-4124-99F9-A61EB1C1F5B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672840"/>
            <a:ext cx="69087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pend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965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0">
              <a:lnSpc>
                <a:spcPct val="100000"/>
              </a:lnSpc>
              <a:buNone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llowing the dependences, we can answer questions lik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ere does this value go to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ere does this value come fro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8191440" y="77468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191440" y="119376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18367-8000-40A6-BED2-972DB4A2A00A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avigating along Dependen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393840" y="2971800"/>
            <a:ext cx="12199680" cy="61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4088-D534-4E66-8760-53B9BD86EF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gram Slic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li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a subset of the 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ows programmers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ocus on what’s relevant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th respect to some statement 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statements influenced by 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statements that influence 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B61-5444-4B36-B69C-EAE5A782A10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672840"/>
            <a:ext cx="69087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orward Sli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965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iven a statement A, the forward slice contains all statements whose read variables or execution could be influenced by 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mally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8229600" y="1905120"/>
            <a:ext cx="2463840" cy="86364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1498680" y="7251840"/>
            <a:ext cx="4406760" cy="4950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8229600" y="51944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8229600" y="688356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8229600" y="77468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8229600" y="605808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8229600" y="343080"/>
            <a:ext cx="2463840" cy="9016920"/>
            <a:chOff x="8229600" y="343080"/>
            <a:chExt cx="2463840" cy="9016920"/>
          </a:xfrm>
        </p:grpSpPr>
        <p:sp>
          <p:nvSpPr>
            <p:cNvPr id="539" name=""/>
            <p:cNvSpPr/>
            <p:nvPr/>
          </p:nvSpPr>
          <p:spPr>
            <a:xfrm>
              <a:off x="8229600" y="343080"/>
              <a:ext cx="2463840" cy="7477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29600" y="1092240"/>
              <a:ext cx="2463840" cy="7495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29600" y="2934000"/>
              <a:ext cx="2463840" cy="74916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29600" y="3683160"/>
              <a:ext cx="2463840" cy="749160"/>
            </a:xfrm>
            <a:prstGeom prst="rect">
              <a:avLst/>
            </a:prstGeom>
            <a:solidFill>
              <a:srgbClr val="1a1a1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29600" y="4496040"/>
              <a:ext cx="2463840" cy="749160"/>
            </a:xfrm>
            <a:prstGeom prst="rect">
              <a:avLst/>
            </a:prstGeom>
            <a:solidFill>
              <a:srgbClr val="212128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29600" y="8610840"/>
              <a:ext cx="2463840" cy="749160"/>
            </a:xfrm>
            <a:prstGeom prst="rect">
              <a:avLst/>
            </a:prstGeom>
            <a:solidFill>
              <a:srgbClr val="42415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26012-E36A-46F0-BDB0-583E311570C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7720" y="672840"/>
            <a:ext cx="73659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ackward Sli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965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iven a statement B, the backward slice contains all statements that could influence the read variables or execution of B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mally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8229600" y="7746840"/>
            <a:ext cx="2463840" cy="86364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8229600" y="34308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1359000" y="7493040"/>
            <a:ext cx="4406760" cy="4953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8229600" y="10922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8229600" y="524520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8229600" y="195588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8229600" y="281952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8229600" y="610884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8229600" y="697248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8204040" y="3683160"/>
            <a:ext cx="2463840" cy="86328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8229600" y="447048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3F979-5D4A-4CB9-843B-B082096984A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36560" y="253800"/>
            <a:ext cx="1153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taining a Hypothesi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762440" y="4838760"/>
            <a:ext cx="2705040" cy="1396800"/>
            <a:chOff x="4762440" y="4838760"/>
            <a:chExt cx="2705040" cy="1396800"/>
          </a:xfrm>
        </p:grpSpPr>
        <p:sp>
          <p:nvSpPr>
            <p:cNvPr id="436" name=""/>
            <p:cNvSpPr/>
            <p:nvPr/>
          </p:nvSpPr>
          <p:spPr>
            <a:xfrm>
              <a:off x="4762440" y="4838760"/>
              <a:ext cx="2705040" cy="13968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85840" y="5155920"/>
              <a:ext cx="2657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Gill Sans"/>
                  <a:ea typeface="Gill Sans"/>
                </a:rPr>
                <a:t>Hypothesis</a:t>
              </a:r>
              <a:endParaRPr b="0" lang="en-US" sz="4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840920" y="2641680"/>
            <a:ext cx="3966120" cy="2387520"/>
            <a:chOff x="4840920" y="2641680"/>
            <a:chExt cx="3966120" cy="2387520"/>
          </a:xfrm>
        </p:grpSpPr>
        <p:sp>
          <p:nvSpPr>
            <p:cNvPr id="439" name=""/>
            <p:cNvSpPr/>
            <p:nvPr/>
          </p:nvSpPr>
          <p:spPr>
            <a:xfrm>
              <a:off x="4840920" y="2641680"/>
              <a:ext cx="39661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blem Repor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286320" y="3378240"/>
              <a:ext cx="734760" cy="1650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368240" y="3720960"/>
            <a:ext cx="1383120" cy="1333440"/>
            <a:chOff x="4368240" y="3720960"/>
            <a:chExt cx="1383120" cy="1333440"/>
          </a:xfrm>
        </p:grpSpPr>
        <p:sp>
          <p:nvSpPr>
            <p:cNvPr id="442" name=""/>
            <p:cNvSpPr/>
            <p:nvPr/>
          </p:nvSpPr>
          <p:spPr>
            <a:xfrm>
              <a:off x="4368240" y="3720960"/>
              <a:ext cx="1288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od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54400" y="4381200"/>
              <a:ext cx="696960" cy="6732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509720" y="5930640"/>
            <a:ext cx="1253880" cy="1072440"/>
            <a:chOff x="4509720" y="5930640"/>
            <a:chExt cx="1253880" cy="1072440"/>
          </a:xfrm>
        </p:grpSpPr>
        <p:sp>
          <p:nvSpPr>
            <p:cNvPr id="445" name=""/>
            <p:cNvSpPr/>
            <p:nvPr/>
          </p:nvSpPr>
          <p:spPr>
            <a:xfrm>
              <a:off x="4509720" y="6362640"/>
              <a:ext cx="991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u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218920" y="5930640"/>
              <a:ext cx="544680" cy="507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904640" y="5905440"/>
            <a:ext cx="2713320" cy="2418480"/>
            <a:chOff x="4904640" y="5905440"/>
            <a:chExt cx="2713320" cy="2418480"/>
          </a:xfrm>
        </p:grpSpPr>
        <p:sp>
          <p:nvSpPr>
            <p:cNvPr id="448" name=""/>
            <p:cNvSpPr/>
            <p:nvPr/>
          </p:nvSpPr>
          <p:spPr>
            <a:xfrm>
              <a:off x="4904640" y="7683480"/>
              <a:ext cx="2713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ore Run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337440" y="5905440"/>
              <a:ext cx="216000" cy="17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79360" y="3733920"/>
            <a:ext cx="4064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educing fr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44600" y="6362640"/>
            <a:ext cx="4064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Observing 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>
            <a:off x="939960" y="7683480"/>
            <a:ext cx="4063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4089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Learning fr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188120" y="3809880"/>
            <a:ext cx="5678640" cy="1492200"/>
            <a:chOff x="7188120" y="3809880"/>
            <a:chExt cx="5678640" cy="1492200"/>
          </a:xfrm>
        </p:grpSpPr>
        <p:sp>
          <p:nvSpPr>
            <p:cNvPr id="454" name=""/>
            <p:cNvSpPr/>
            <p:nvPr/>
          </p:nvSpPr>
          <p:spPr>
            <a:xfrm>
              <a:off x="8163000" y="3809880"/>
              <a:ext cx="470376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Earlier Hypothes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+ Observation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7188120" y="4813200"/>
              <a:ext cx="1424160" cy="488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4514-37DB-4B27-BEE8-DE5777E4043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1270080" y="8178840"/>
            <a:ext cx="10755360" cy="640440"/>
            <a:chOff x="1270080" y="8178840"/>
            <a:chExt cx="10755360" cy="640440"/>
          </a:xfrm>
        </p:grpSpPr>
        <p:sp>
          <p:nvSpPr>
            <p:cNvPr id="562" name=""/>
            <p:cNvSpPr/>
            <p:nvPr/>
          </p:nvSpPr>
          <p:spPr>
            <a:xfrm>
              <a:off x="1270080" y="8331120"/>
              <a:ext cx="5232240" cy="457200"/>
            </a:xfrm>
            <a:prstGeom prst="rect">
              <a:avLst/>
            </a:prstGeom>
            <a:solidFill>
              <a:srgbClr val="0080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99160" y="8178840"/>
              <a:ext cx="54262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Backward slice of mu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45120" y="8597880"/>
              <a:ext cx="901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70080" y="41274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1270080" y="45846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1270080" y="50418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1270080" y="54990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1270080" y="69213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1270080" y="64641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270080" y="3670200"/>
            <a:ext cx="10874160" cy="4660920"/>
            <a:chOff x="1270080" y="3670200"/>
            <a:chExt cx="10874160" cy="4660920"/>
          </a:xfrm>
        </p:grpSpPr>
        <p:grpSp>
          <p:nvGrpSpPr>
            <p:cNvPr id="572" name=""/>
            <p:cNvGrpSpPr/>
            <p:nvPr/>
          </p:nvGrpSpPr>
          <p:grpSpPr>
            <a:xfrm>
              <a:off x="1270080" y="3670200"/>
              <a:ext cx="5232240" cy="4660920"/>
              <a:chOff x="1270080" y="3670200"/>
              <a:chExt cx="5232240" cy="4660920"/>
            </a:xfrm>
          </p:grpSpPr>
          <p:sp>
            <p:nvSpPr>
              <p:cNvPr id="573" name=""/>
              <p:cNvSpPr/>
              <p:nvPr/>
            </p:nvSpPr>
            <p:spPr>
              <a:xfrm>
                <a:off x="1270080" y="367020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70080" y="60069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70080" y="787392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70080" y="46479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70080" y="51051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270080" y="55497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270080" y="6921360"/>
                <a:ext cx="5232240" cy="457200"/>
              </a:xfrm>
              <a:prstGeom prst="rect">
                <a:avLst/>
              </a:prstGeom>
              <a:solidFill>
                <a:srgbClr val="ff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058080" y="7569000"/>
              <a:ext cx="6086160" cy="640440"/>
              <a:chOff x="6058080" y="7569000"/>
              <a:chExt cx="6086160" cy="640440"/>
            </a:xfrm>
          </p:grpSpPr>
          <p:sp>
            <p:nvSpPr>
              <p:cNvPr id="581" name=""/>
              <p:cNvSpPr/>
              <p:nvPr/>
            </p:nvSpPr>
            <p:spPr>
              <a:xfrm>
                <a:off x="6599160" y="7569000"/>
                <a:ext cx="5545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Backward slice of sum</a:t>
                </a:r>
                <a:endParaRPr b="0" lang="en-US" sz="4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58080" y="8000640"/>
                <a:ext cx="90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wo Sli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4" name=""/>
          <p:cNvSpPr/>
          <p:nvPr/>
        </p:nvSpPr>
        <p:spPr>
          <a:xfrm>
            <a:off x="1193760" y="2603520"/>
            <a:ext cx="4648320" cy="66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main(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a, b, sum, mul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0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mul =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hile (a &lt;= b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sum +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mul = mul *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a +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sum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mul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860960" y="2692440"/>
            <a:ext cx="3962520" cy="415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lice Operation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ckbon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o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B8DF-59FA-4151-B974-8D00A1D24DD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270080" y="69213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1270080" y="54990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1270080" y="50418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1270080" y="692136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1270080" y="554976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1270080" y="510552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1270080" y="45846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ackbon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4" name=""/>
          <p:cNvSpPr/>
          <p:nvPr/>
        </p:nvSpPr>
        <p:spPr>
          <a:xfrm>
            <a:off x="1270080" y="464832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1193760" y="2603520"/>
            <a:ext cx="4648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hile (a &lt;= b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a +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086600" y="276840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ains only those statement that occur in both sl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ful for focusing on common behavi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9E7B-8E7F-4E5B-8E8A-C116F148D246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270080" y="41274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1270080" y="45846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1270080" y="50418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1270080" y="549900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1270080" y="69213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1270080" y="646416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1270080" y="8331120"/>
            <a:ext cx="5232240" cy="457200"/>
          </a:xfrm>
          <a:prstGeom prst="rect">
            <a:avLst/>
          </a:prstGeom>
          <a:solidFill>
            <a:srgbClr val="008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270080" y="3670200"/>
            <a:ext cx="5232240" cy="4660920"/>
            <a:chOff x="1270080" y="3670200"/>
            <a:chExt cx="5232240" cy="4660920"/>
          </a:xfrm>
        </p:grpSpPr>
        <p:sp>
          <p:nvSpPr>
            <p:cNvPr id="605" name=""/>
            <p:cNvSpPr/>
            <p:nvPr/>
          </p:nvSpPr>
          <p:spPr>
            <a:xfrm>
              <a:off x="1270080" y="367020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70080" y="60069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70080" y="787392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70080" y="46479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70080" y="51051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70080" y="55497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70080" y="6921360"/>
              <a:ext cx="5232240" cy="4572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wo Sli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2603520"/>
            <a:ext cx="4648320" cy="66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main(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a, b, sum, mul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0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mul =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b = read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hile (a &lt;= b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sum +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mul = mul *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 = a + 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sum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mul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058080" y="7569360"/>
            <a:ext cx="6086160" cy="640440"/>
            <a:chOff x="6058080" y="7569360"/>
            <a:chExt cx="6086160" cy="640440"/>
          </a:xfrm>
        </p:grpSpPr>
        <p:sp>
          <p:nvSpPr>
            <p:cNvPr id="615" name=""/>
            <p:cNvSpPr/>
            <p:nvPr/>
          </p:nvSpPr>
          <p:spPr>
            <a:xfrm>
              <a:off x="6599160" y="7569360"/>
              <a:ext cx="5545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Backward slice of sum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58080" y="8000640"/>
              <a:ext cx="901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6599160" y="8178840"/>
            <a:ext cx="5426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ackward slice of mu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6045120" y="8597880"/>
            <a:ext cx="9018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83120" y="2692440"/>
            <a:ext cx="4140360" cy="414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lice Operation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ckbon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75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05408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o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678C-AF58-4B80-80AE-20A50ABAB0F5}" type="slidenum">
              <a:t>22</a:t>
            </a:fld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i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1" name=""/>
          <p:cNvSpPr/>
          <p:nvPr/>
        </p:nvSpPr>
        <p:spPr>
          <a:xfrm>
            <a:off x="1270080" y="367020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1270080" y="600696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1270080" y="7873920"/>
            <a:ext cx="5232240" cy="4572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1193760" y="2603520"/>
            <a:ext cx="464832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0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um = sum + a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rite(sum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137000" y="2768400"/>
            <a:ext cx="4597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ains only the difference between two sl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ful for focusing on differing behavi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9BCD-87E2-43FF-A5A5-2674298CAB15}" type="slidenum">
              <a:t>23</a:t>
            </a:fld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5905440" y="330120"/>
            <a:ext cx="6794640" cy="91598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61680" y="685440"/>
            <a:ext cx="690876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hop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4"/>
          <a:stretch/>
        </p:blipFill>
        <p:spPr>
          <a:xfrm>
            <a:off x="5904000" y="343080"/>
            <a:ext cx="6718320" cy="905328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8217000" y="2781360"/>
            <a:ext cx="2463840" cy="4165560"/>
            <a:chOff x="8217000" y="2781360"/>
            <a:chExt cx="2463840" cy="4165560"/>
          </a:xfrm>
        </p:grpSpPr>
        <p:sp>
          <p:nvSpPr>
            <p:cNvPr id="631" name=""/>
            <p:cNvSpPr/>
            <p:nvPr/>
          </p:nvSpPr>
          <p:spPr>
            <a:xfrm>
              <a:off x="8217000" y="2781360"/>
              <a:ext cx="2463840" cy="863640"/>
            </a:xfrm>
            <a:prstGeom prst="pie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17000" y="6083280"/>
              <a:ext cx="2463840" cy="863640"/>
            </a:xfrm>
            <a:prstGeom prst="pie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8217000" y="524520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17000" y="6946920"/>
            <a:ext cx="2463840" cy="863640"/>
          </a:xfrm>
          <a:prstGeom prst="pie">
            <a:avLst/>
          </a:prstGeom>
          <a:solidFill>
            <a:srgbClr val="cc66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4660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tersection between a forward and a backward slic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ful for determining influence paths within the progra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EF2E5-91FD-49E3-BA2B-E3C7087A2B43}" type="slidenum">
              <a:t>24</a:t>
            </a:fld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everaging Slic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1854360" y="2324160"/>
            <a:ext cx="9296280" cy="726264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5959440" y="4508640"/>
            <a:ext cx="1072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6299280" y="8470800"/>
            <a:ext cx="424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(Note: This slice is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executable!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BB75-F5B4-461C-B118-59A9E9545C7C}" type="slidenum">
              <a:t>25</a:t>
            </a:fld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253800"/>
            <a:ext cx="108586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ducing Code Smell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 of uninitialized 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used valu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reachable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emory lea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terface mis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ull point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65E-9323-4BDC-BA32-7566575FCC7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ninitialized Variabl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3" name=""/>
          <p:cNvSpPr/>
          <p:nvPr/>
        </p:nvSpPr>
        <p:spPr>
          <a:xfrm>
            <a:off x="3308400" y="3670200"/>
            <a:ext cx="620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gcc -Wall -O -o fibo fibo.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1422360" y="368316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1434960" y="4419720"/>
            <a:ext cx="1010952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Monaco"/>
                <a:ea typeface="Monaco"/>
              </a:rPr>
              <a:t>fibo.c: In function `fib'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4200" spc="-1" strike="noStrike">
                <a:solidFill>
                  <a:srgbClr val="ff8000"/>
                </a:solidFill>
                <a:latin typeface="Monaco"/>
                <a:ea typeface="Monaco"/>
              </a:rPr>
              <a:t>fibo.c:7: warning: `f' might be used uninitialized in this fun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214D-6868-4E3E-B04D-41216E9767B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alse Positiv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7" name=""/>
          <p:cNvSpPr/>
          <p:nvPr/>
        </p:nvSpPr>
        <p:spPr>
          <a:xfrm>
            <a:off x="1790640" y="2171880"/>
            <a:ext cx="1010916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go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switch (color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ase RED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ase AMBER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go = 0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break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ase GREEN: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go = 1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break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go) { ... 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378240" y="5460840"/>
            <a:ext cx="9220320" cy="2895120"/>
            <a:chOff x="3378240" y="5460840"/>
            <a:chExt cx="9220320" cy="2895120"/>
          </a:xfrm>
        </p:grpSpPr>
        <p:sp>
          <p:nvSpPr>
            <p:cNvPr id="649" name=""/>
            <p:cNvSpPr/>
            <p:nvPr/>
          </p:nvSpPr>
          <p:spPr>
            <a:xfrm>
              <a:off x="6502320" y="5460840"/>
              <a:ext cx="6096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612792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8000"/>
                  </a:solidFill>
                  <a:latin typeface="Monaco"/>
                  <a:ea typeface="Monaco"/>
                </a:rPr>
                <a:t>warning: `go' might be used uninitialized in this function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3378240" y="7403760"/>
              <a:ext cx="4905360" cy="95220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6F84-F41C-4095-9644-4B446C8657F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nreachable Co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2" name=""/>
          <p:cNvSpPr/>
          <p:nvPr/>
        </p:nvSpPr>
        <p:spPr>
          <a:xfrm>
            <a:off x="1434960" y="3556080"/>
            <a:ext cx="101095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w &gt;=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rintf("w is non-negative\n"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else if (w &gt;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140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rintf("w is positive\n"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7600" y="5994360"/>
            <a:ext cx="8978760" cy="2133720"/>
            <a:chOff x="3657600" y="5994360"/>
            <a:chExt cx="8978760" cy="2133720"/>
          </a:xfrm>
        </p:grpSpPr>
        <p:sp>
          <p:nvSpPr>
            <p:cNvPr id="654" name=""/>
            <p:cNvSpPr/>
            <p:nvPr/>
          </p:nvSpPr>
          <p:spPr>
            <a:xfrm>
              <a:off x="3873600" y="7454880"/>
              <a:ext cx="87627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87948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8000"/>
                  </a:solidFill>
                  <a:latin typeface="Monaco"/>
                  <a:ea typeface="Monaco"/>
                </a:rPr>
                <a:t>warning: will never be executed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57600" y="5994360"/>
              <a:ext cx="4621320" cy="141300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09E1-7F9E-4C9C-81B2-AC0C825FC99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1892160" y="3111480"/>
            <a:ext cx="9207360" cy="5880240"/>
            <a:chOff x="1892160" y="3111480"/>
            <a:chExt cx="9207360" cy="5880240"/>
          </a:xfrm>
        </p:grpSpPr>
        <p:sp>
          <p:nvSpPr>
            <p:cNvPr id="457" name=""/>
            <p:cNvSpPr/>
            <p:nvPr/>
          </p:nvSpPr>
          <p:spPr>
            <a:xfrm>
              <a:off x="1892160" y="3111480"/>
              <a:ext cx="9207360" cy="58802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8640" y="3441600"/>
              <a:ext cx="4165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Experiment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048120" y="4330800"/>
            <a:ext cx="6883200" cy="4546440"/>
            <a:chOff x="3048120" y="4330800"/>
            <a:chExt cx="6883200" cy="4546440"/>
          </a:xfrm>
        </p:grpSpPr>
        <p:sp>
          <p:nvSpPr>
            <p:cNvPr id="460" name=""/>
            <p:cNvSpPr/>
            <p:nvPr/>
          </p:nvSpPr>
          <p:spPr>
            <a:xfrm>
              <a:off x="3048120" y="4330800"/>
              <a:ext cx="6883200" cy="45464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98480" y="4699080"/>
              <a:ext cx="24055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ndu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733920" y="5626080"/>
            <a:ext cx="5537160" cy="3098880"/>
            <a:chOff x="3733920" y="5626080"/>
            <a:chExt cx="5537160" cy="3098880"/>
          </a:xfrm>
        </p:grpSpPr>
        <p:sp>
          <p:nvSpPr>
            <p:cNvPr id="463" name=""/>
            <p:cNvSpPr/>
            <p:nvPr/>
          </p:nvSpPr>
          <p:spPr>
            <a:xfrm>
              <a:off x="3733920" y="5626080"/>
              <a:ext cx="5537160" cy="30988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65480" y="6045120"/>
              <a:ext cx="3072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bserv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838760" y="7035840"/>
            <a:ext cx="3251160" cy="1536840"/>
            <a:chOff x="4838760" y="7035840"/>
            <a:chExt cx="3251160" cy="1536840"/>
          </a:xfrm>
        </p:grpSpPr>
        <p:sp>
          <p:nvSpPr>
            <p:cNvPr id="466" name=""/>
            <p:cNvSpPr/>
            <p:nvPr/>
          </p:nvSpPr>
          <p:spPr>
            <a:xfrm>
              <a:off x="4838760" y="7035840"/>
              <a:ext cx="3251160" cy="15368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09920" y="7429680"/>
              <a:ext cx="2584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du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15560" y="253800"/>
            <a:ext cx="10960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asoning about Ru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3840" y="3924360"/>
            <a:ext cx="2457360" cy="4442760"/>
            <a:chOff x="5253840" y="3924360"/>
            <a:chExt cx="2457360" cy="4442760"/>
          </a:xfrm>
        </p:grpSpPr>
        <p:sp>
          <p:nvSpPr>
            <p:cNvPr id="470" name=""/>
            <p:cNvSpPr/>
            <p:nvPr/>
          </p:nvSpPr>
          <p:spPr>
            <a:xfrm>
              <a:off x="6049080" y="8001000"/>
              <a:ext cx="90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0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77520" y="6553440"/>
              <a:ext cx="758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1 run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41520" y="5168880"/>
              <a:ext cx="91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n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53840" y="392436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n controlled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8B08-2FB9-487D-B2FF-AD5A71B335F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emory Leak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7" name=""/>
          <p:cNvSpPr/>
          <p:nvPr/>
        </p:nvSpPr>
        <p:spPr>
          <a:xfrm>
            <a:off x="444600" y="2476440"/>
            <a:ext cx="120902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*readbuf(int size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*p = malloc(size * sizeof(int)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size; i++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[i] = readint(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p[i] ==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0;  // end-of-fil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p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423040" y="6781680"/>
            <a:ext cx="5041800" cy="2222640"/>
            <a:chOff x="5423040" y="6781680"/>
            <a:chExt cx="5041800" cy="2222640"/>
          </a:xfrm>
        </p:grpSpPr>
        <p:sp>
          <p:nvSpPr>
            <p:cNvPr id="659" name=""/>
            <p:cNvSpPr/>
            <p:nvPr/>
          </p:nvSpPr>
          <p:spPr>
            <a:xfrm>
              <a:off x="7188480" y="8331120"/>
              <a:ext cx="3276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3295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8000"/>
                  </a:solidFill>
                  <a:latin typeface="Monaco"/>
                  <a:ea typeface="Monaco"/>
                </a:rPr>
                <a:t>memory leak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23040" y="6781680"/>
              <a:ext cx="2752560" cy="165420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119A-0AF4-47AD-B0BD-111B5363B99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terface Misus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62" name=""/>
          <p:cNvSpPr/>
          <p:nvPr/>
        </p:nvSpPr>
        <p:spPr>
          <a:xfrm>
            <a:off x="444600" y="2476440"/>
            <a:ext cx="1209024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void readfile(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fp = open(file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size = readint(file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size &lt;=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close(fp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622760" y="5994360"/>
            <a:ext cx="5651640" cy="2336760"/>
            <a:chOff x="4622760" y="5994360"/>
            <a:chExt cx="5651640" cy="2336760"/>
          </a:xfrm>
        </p:grpSpPr>
        <p:sp>
          <p:nvSpPr>
            <p:cNvPr id="664" name=""/>
            <p:cNvSpPr/>
            <p:nvPr/>
          </p:nvSpPr>
          <p:spPr>
            <a:xfrm>
              <a:off x="5397480" y="7657920"/>
              <a:ext cx="4876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4908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8000"/>
                  </a:solidFill>
                  <a:latin typeface="Monaco"/>
                  <a:ea typeface="Monaco"/>
                </a:rPr>
                <a:t>stream not closed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22760" y="5994360"/>
              <a:ext cx="2752560" cy="1654200"/>
            </a:xfrm>
            <a:prstGeom prst="line">
              <a:avLst/>
            </a:prstGeom>
            <a:ln w="38160">
              <a:solidFill>
                <a:srgbClr val="ff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7A54-2F94-4C7B-BD6B-AF26BE51DA3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ull Point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67" name=""/>
          <p:cNvSpPr/>
          <p:nvPr/>
        </p:nvSpPr>
        <p:spPr>
          <a:xfrm>
            <a:off x="444600" y="2476440"/>
            <a:ext cx="1209024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*readbuf(int size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*p = malloc(size * sizeof(int)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size; i++) {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p[i] = readint(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f (p[i] == 0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0;  // end-of-fil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return p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122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8064360" y="2489040"/>
            <a:ext cx="370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372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000"/>
                </a:solidFill>
                <a:latin typeface="Monaco"/>
                <a:ea typeface="Monaco"/>
              </a:rPr>
              <a:t>p may be nul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213000" y="2971440"/>
            <a:ext cx="4864320" cy="1033560"/>
          </a:xfrm>
          <a:prstGeom prst="line">
            <a:avLst/>
          </a:prstGeom>
          <a:ln w="38160">
            <a:solidFill>
              <a:srgbClr val="ff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FA28-9F06-4704-B462-E7540530AC5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685800" y="507960"/>
            <a:ext cx="11379240" cy="871848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ndbug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98DC-5ABF-436C-B4E3-9343AC54B3F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812520" y="63360"/>
            <a:ext cx="11379240" cy="961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46640" indent="-473400">
              <a:lnSpc>
                <a:spcPct val="100000"/>
              </a:lnSpc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lass implements </a:t>
            </a: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Cloneable</a:t>
            </a: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 but does not define or use </a:t>
            </a: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clone</a:t>
            </a: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 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Method might ignore excep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Null pointer dereference in 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lass defines </a:t>
            </a: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equal()</a:t>
            </a: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; should it be </a:t>
            </a:r>
            <a:r>
              <a:rPr b="0" lang="en-US" sz="3600" spc="-1" strike="noStrike">
                <a:solidFill>
                  <a:srgbClr val="6666ff"/>
                </a:solidFill>
                <a:latin typeface="Monaco"/>
                <a:ea typeface="Monaco"/>
              </a:rPr>
              <a:t>equals()</a:t>
            </a: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Method may fail to close database resour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Method may fail to close stre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Method ignores return val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Unread fie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Unused fie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Unwritten fiel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46640" indent="-473400">
              <a:lnSpc>
                <a:spcPct val="100000"/>
              </a:lnSpc>
              <a:spcBef>
                <a:spcPts val="2599"/>
              </a:spcBef>
              <a:buClr>
                <a:srgbClr val="6666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Private method is never called \\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fect Patter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057-F78D-4DF9-B506-A20189AB3A6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imits of Analysi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5" name=""/>
          <p:cNvSpPr/>
          <p:nvPr/>
        </p:nvSpPr>
        <p:spPr>
          <a:xfrm>
            <a:off x="355680" y="2603520"/>
            <a:ext cx="122680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287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int x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287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for(i=j=k=1;--j||k;k=j?i%j?k:k-j:(j=i+=2)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2287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write(x)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269720" y="4749840"/>
            <a:ext cx="1046484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07480" indent="-5119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 x being used uninitialized or no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oop halts only if there is an odd perfect number (= a number that’s the sum of its proper positive divisor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blem is undediced  y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8DD-79CE-44A1-B14A-19225AE74B6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977760" y="736560"/>
            <a:ext cx="11023920" cy="82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at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hell_sor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[], int siz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, j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h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= h * 3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&lt;= siz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/= 3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h; i &lt; size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v = a[i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j = i; j &gt;= h &amp;&amp; a[j - h] &gt; v; j -= h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a[j - h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i != j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v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!= 1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"/>
          <p:cNvSpPr/>
          <p:nvPr/>
        </p:nvSpPr>
        <p:spPr>
          <a:xfrm>
            <a:off x="5613480" y="1434960"/>
            <a:ext cx="64008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426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onservative approximatio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426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ny a[] depends on all a[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F67B7-106F-44FD-9FBF-EE1940A9F78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253800"/>
            <a:ext cx="108712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uses of Imprecis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direct access, as in a[i]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int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nc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ynamic dispatc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currenc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443-E786-468C-9037-A4F9DD25BCB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isks of Dedu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50680" indent="-5396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ode mismatch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Is the run created from this very source cod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06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Abstracting away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ailures may be caused by a defect in the environmen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0680" indent="-539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Imprecision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A slice typically encompasses 90% of the source cod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C65-B5CE-496E-9863-B86A66927F2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creasing Precis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486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Verification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If we know that certain properties hold, we can leverage them in our inference proces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Observation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acts from concrete runscan be combined with deduction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"/>
          <p:cNvSpPr/>
          <p:nvPr/>
        </p:nvSpPr>
        <p:spPr>
          <a:xfrm>
            <a:off x="3322800" y="7797960"/>
            <a:ext cx="586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in the weeks to com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5F1-DB24-4D9B-B2AC-10575BD5F87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4838760" y="7035840"/>
            <a:ext cx="3251160" cy="1536840"/>
            <a:chOff x="4838760" y="7035840"/>
            <a:chExt cx="3251160" cy="1536840"/>
          </a:xfrm>
        </p:grpSpPr>
        <p:sp>
          <p:nvSpPr>
            <p:cNvPr id="475" name=""/>
            <p:cNvSpPr/>
            <p:nvPr/>
          </p:nvSpPr>
          <p:spPr>
            <a:xfrm>
              <a:off x="4838760" y="7035840"/>
              <a:ext cx="3251160" cy="15368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09920" y="7429680"/>
              <a:ext cx="2584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du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15560" y="253800"/>
            <a:ext cx="10960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asoning about Ru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8" name=""/>
          <p:cNvSpPr/>
          <p:nvPr/>
        </p:nvSpPr>
        <p:spPr>
          <a:xfrm>
            <a:off x="6049440" y="8001000"/>
            <a:ext cx="90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0 ru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F034-97BC-4A5A-A221-9F6DB6A367F8}" type="slidenum">
              <a:t>4</a:t>
            </a:fld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reason about programs, 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duction (0 ru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servation (1 ru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duction (multiple ru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perimentation (controlled ru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391-0C4C-4C47-A43E-5E9F752FE3A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92204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5880" indent="-4968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isolate value origins, follow back the dependen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5880" indent="-4968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pendences can uncove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ode smells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ch a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initialized vari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used valu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reachable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5880" indent="-4968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t rid of smells before debu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755-E57F-4AB2-A21B-0692E3A76B5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3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718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slice a program, follow dependences from a statement S to find all statements th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uld be influenced by S (forward slic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uld influence S (backward slic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34C-A957-4315-89A7-802F32C6CBF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4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77240" indent="-4914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ing deduction alone includes a number of risks, including code mismatch, sbstracting away, and imprecis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7240" indent="-4914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deduction is limited by the halting problem and must thus resort to conservative approxima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77240" indent="-4914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debugging, deduction is best combined with actual observatio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669-5071-471E-8484-0AB1611241B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91883-EB71-44F5-9C69-2AEA754CC0D9}" type="slidenum">
              <a:t>44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at’s relevant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0" name=""/>
          <p:cNvSpPr/>
          <p:nvPr/>
        </p:nvSpPr>
        <p:spPr>
          <a:xfrm>
            <a:off x="1955880" y="3340080"/>
            <a:ext cx="906768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08676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10 INPUT X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08676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20 Y = 0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08676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30 X = 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08676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  <a:ea typeface="Monaco"/>
              </a:rPr>
              <a:t>40 PRINT “X = “, X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3911760" y="5194440"/>
            <a:ext cx="1592280" cy="95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6286680"/>
            <a:ext cx="6388200" cy="1010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1955880" y="3263760"/>
            <a:ext cx="5676840" cy="1231920"/>
          </a:xfrm>
          <a:prstGeom prst="rect">
            <a:avLst/>
          </a:prstGeom>
          <a:gradFill rotWithShape="0">
            <a:gsLst>
              <a:gs pos="0">
                <a:srgbClr val="111117">
                  <a:alpha val="69803"/>
                </a:srgbClr>
              </a:gs>
              <a:gs pos="100000">
                <a:srgbClr val="1d1d26">
                  <a:alpha val="6980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5F7C-9C7B-4AC9-B1CD-EE138C7E85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bonacci Numb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028880" y="3670200"/>
            <a:ext cx="11430000" cy="120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"/>
          <p:cNvGraphicFramePr/>
          <p:nvPr/>
        </p:nvGraphicFramePr>
        <p:xfrm>
          <a:off x="1282680" y="5943600"/>
          <a:ext cx="10439280" cy="102888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54080"/>
                <a:gridCol w="1041120"/>
                <a:gridCol w="1041480"/>
                <a:gridCol w="1054080"/>
                <a:gridCol w="1041480"/>
                <a:gridCol w="1041480"/>
                <a:gridCol w="1041480"/>
                <a:gridCol w="1041120"/>
              </a:tblGrid>
              <a:tr h="1028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3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5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CF5A-588A-49AB-85E6-53EE28F09C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bo.c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8" name=""/>
          <p:cNvSpPr/>
          <p:nvPr/>
        </p:nvSpPr>
        <p:spPr>
          <a:xfrm>
            <a:off x="876240" y="2895480"/>
            <a:ext cx="491508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66"/>
                </a:solidFill>
                <a:latin typeface="Monaco"/>
                <a:ea typeface="Monaco"/>
              </a:rPr>
              <a:t>fib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f, f0 = 1, f1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hile (n &gt; 1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 = n - 1;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 = f0 + f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0 = f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1 = f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f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494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895480"/>
            <a:ext cx="509256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n = 9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hile (n &gt; 0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fib(%d)=%d\n",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, fib(n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 = n -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488A-2017-4489-9FB0-7C1E494903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220280" y="3683160"/>
            <a:ext cx="131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./fib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bo in 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2" name=""/>
          <p:cNvSpPr/>
          <p:nvPr/>
        </p:nvSpPr>
        <p:spPr>
          <a:xfrm>
            <a:off x="4750560" y="2971800"/>
            <a:ext cx="40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gcc -o fibo fibo.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3251160" y="298440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3720240" y="4406760"/>
            <a:ext cx="432288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fib(9)=55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fib(8)=34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fib(2)=2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Monaco"/>
                <a:ea typeface="Monaco"/>
              </a:rPr>
              <a:t>fib(1)=134513905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3251160" y="369576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8547120" y="4940280"/>
            <a:ext cx="4243320" cy="2573280"/>
            <a:chOff x="8547120" y="4940280"/>
            <a:chExt cx="4243320" cy="2573280"/>
          </a:xfrm>
        </p:grpSpPr>
        <p:sp>
          <p:nvSpPr>
            <p:cNvPr id="497" name=""/>
            <p:cNvSpPr/>
            <p:nvPr/>
          </p:nvSpPr>
          <p:spPr>
            <a:xfrm>
              <a:off x="8826480" y="4940280"/>
              <a:ext cx="396396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Where doe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fib(1) come from?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8547120" y="6362640"/>
              <a:ext cx="1644480" cy="115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7721-AC98-4FA8-B54D-790684526C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ffects of Stateme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Write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 statement can change the program state (i.e. write to a variabl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Control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statement may determine which statement is executed nex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other than unconditional transfer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E1B-1121-49F8-A71F-4FEA2826E5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